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A46-94A2-41CB-845C-1D9B1508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FDE-0F6A-493D-A10A-A93C9002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D10-0428-409E-B5A4-DCFADE09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6D0-1D80-4666-A336-46C487AA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BB29-F25A-40C3-8B04-C65C009B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3090-9ED9-4AEC-AB4B-50E3A346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2611-4B28-4B14-AE85-4E03B618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18DC-9076-406F-BFDC-ABEA7CDA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7616-95AB-4691-B56C-00BDEA72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4337-DCCB-4F3E-A180-11F872F6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1600-2002-4591-A0C0-7F0AFD40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B93-5FAF-40B4-9012-955F0E2F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D9CC-2F9A-4A11-B40C-6F321AC5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10B5-0746-4A7B-8A5D-9A26F94B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7B12-F1F4-4688-B0B8-1774481B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AE46-7C93-46E0-821B-A31B130A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7745-C401-495E-9560-924E24F2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5E3EB-5C47-4AB0-9989-B77CBE3F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253B6-FF63-4573-8C04-C9B4C0F7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89B4-93A0-4F5F-929E-F7AB311C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51FAB-0512-4BB6-A6DD-CF0020FE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0B91F-68A7-49D7-A055-D03CDB6C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560-892D-471A-8C20-F608C704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04D84-1108-4C11-A5EA-3576274E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40FB6-D2B0-4611-A654-B1D00E49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894EE-65EF-4B4A-ABD7-9FE7048A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7BAB9-D3C9-4F71-8DBA-51F41AA2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ADEE7-92DC-42DD-8EF7-0543AB4B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2D6E0-CB08-4F93-BF08-FE08D7FF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14E6F-E9CB-4CF6-AB54-65E95A5F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CACB7-DC4E-4616-AA76-6798787D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F0933-1BA7-43BC-8B43-1B8BA168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261EC-05CF-4DC0-A693-F34CFD50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F0C-1DEB-4B1E-AB15-0F7B5A5E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1789A-CE23-4D25-88FE-4F853080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7EEAC-4D3F-4DF0-95B2-7F9DB080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29EB1-022D-4D9E-AD41-52D50B76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96455-7070-41AA-A5BA-6774AD3B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FD261-B075-4FF6-85F1-F0D5494F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57F87-FF02-49BC-A33F-934DAE53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8D620-05C6-4841-8C48-18CF22B3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180D3-7EAE-497A-B035-0C27C728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F8655-7EC0-4787-A87A-7C32CC9E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C0831-D9A2-4714-9121-F1AD8B40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5E75-BC98-4767-B7B7-E4559A66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32947-2EEA-4AEC-8D3A-1AA77D2E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BE30B-2E02-4A6A-A835-A06EFF34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841E7-A668-46A8-9DD3-0023FE22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AFD94-204F-4483-B5F9-A71298A2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C8184-9768-4A3A-9ABD-0C0015B3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49CB5-4020-4B3F-A1D8-65CFD514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322A7-5B95-4E67-88D9-FDC9496D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B740D-5353-4C1F-BFFB-A5B8206A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EE8E7-C271-4240-97C5-72554FC2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92DF7-9D7B-40AD-87FD-9B8D4E75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9FB6-8BA5-4FE2-973E-287450A3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83602-2F20-4086-AF26-0516B244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745-AAAF-4005-BD95-04B78BD9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BE4-D6F2-4E0D-BBE9-BF36F10F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DE6-7DE2-40C9-B63E-50F8C3B2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4904-2995-4BAE-B2C0-B7D94E5FC9F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DC7F-DE1E-442B-853A-9BCB9DF9634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FD5D-D794-4325-ABF1-799A62BD15B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7EA6-FA22-43BB-A102-F15208D28AB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4A40-CDEC-445D-8407-6B67B1BC967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Latitude%20and%20Longitude%20-%20YouTube.mp4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Weather%20%20%20Climate%201%20of%205%20-%20YouTube.mp4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Perpetua"/>
              </a:rPr>
              <a:t>6 Factors that Affect Climate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anklin Gothic Book"/>
              </a:rPr>
              <a:t>World Climate</a:t>
            </a:r>
            <a:endParaRPr b="0" lang="en-US" sz="72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6 factors that affect Climat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.  Latitud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maginary lines that measures north and south of the equat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lose to the equator is low latitud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re heat from the su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lose to the poles is high latitud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ss heat from the su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Latitude and Longitude - YouTube.mp4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5486400" y="3102120"/>
            <a:ext cx="30481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6 factors that affect Climat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.  Altitude or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affects temperatu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igher a place is , the cooler the temperature 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lower a place is , the warmer the temperature 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Weather   Climate of 5 - YouTube.mp4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411480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6 factors that affect Climat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3.  Nearness to Wa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laces close to large bodies of water generally have mild climat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ater holds heat longer than land are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eather   Climate 2 of 5 - YouTube.mp4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5105520" y="3502080"/>
            <a:ext cx="38862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6 factors that affect Climat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4.  The direction of prevailing win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winds that blow most often in an are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r example: the winds that blow from the pacific ocean to Canada’s west cast (British Columbia) are warm and moist so the west coast gets a lot of rai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eather   Climate 3 of 5 - YouTube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p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5257800" y="3181320"/>
            <a:ext cx="3824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6 factors that affect Climat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.  Landform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y affect precipitation (rain and snow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ocean air rises over mountains, the air expands and becomes thinn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isture becomes too heavy for the air to hold 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will be released as rain or sno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eather   Climate 4 of 5 - YouTube.mp4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5257800" y="4216320"/>
            <a:ext cx="350532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6 factors that affect Climat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6.  Cloud Cov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will prevent much of the sun’s energy from reaching the ea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is why cloudy days are cooler than sunny day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ud cover also prevents heat from escaping overnigh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eather   Climate 5 of 5 - YouTube.mp4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5181480" y="3917880"/>
            <a:ext cx="36198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ctors That Affect Climate - YouTube.mp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ill Nye The Science Guy - Climates (Full Episode) - YouTube.mp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6:14:07Z</dcterms:created>
  <dc:creator>ladmin</dc:creator>
  <dc:description/>
  <dc:language>en-US</dc:language>
  <cp:lastModifiedBy>Terry, Sean J. (ASD-E)</cp:lastModifiedBy>
  <dcterms:modified xsi:type="dcterms:W3CDTF">2017-12-06T02:14:51Z</dcterms:modified>
  <cp:revision>12</cp:revision>
  <dc:subject/>
  <dc:title>World Climate</dc:title>
</cp:coreProperties>
</file>